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1413-46C4-44D6-804B-C28A2EA08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75D4-25C8-4782-BF98-10F8259227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E5F-661C-4BCA-ACB9-BC4AD22003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031A-5800-45BD-910F-BF91B040BC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D2FF-52A0-4560-B289-CFB8BD0D98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FCA4-B73E-4644-A280-1D3505B9D8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C7A3-9BF3-404E-9017-D6F7ADB7A1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ED39-B578-4FD7-9DF6-EDC2F29F91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53C2-C2B9-4135-8A54-DE45FA445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A7FA-95F7-42BF-921A-41AD9F6776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1B4D-6C80-47C4-9926-C126F7C83B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85FF-3CCE-4C67-B6A4-CF414405C5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7B52-C7AF-4BA0-838B-273FB01651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42D0-FFD6-44D2-8842-C91F4437C5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0223-0CAE-4310-B13F-E813E67BCA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8B1D-8215-4E0D-91BE-4722742C26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A4FD-740C-4A2F-B6B8-552A252B43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9638-3533-45AA-81DD-18926CAFE6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0808-9473-4C51-92DC-B5A92F002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9715-0CD3-48A9-8C7B-B8DF6342F4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1771-DB6A-4E02-93BB-F661ED531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DAFD-4B98-46C4-A189-05FEA27204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22A7-31CC-476F-AB71-1E09EEC5C4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D51EB-89CC-41C7-BA89-750D04C8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735FB-2107-4C31-8BA6-0DF3056E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741D4-721D-4978-BD35-8407DD27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F1941-840A-4455-9927-01810353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1CCB7-5F74-4EB0-9E2D-2283429A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FD333-E3F0-4330-926A-42E139C8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7100B-CAD5-4553-A9C7-69D60B4B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0BE52-1C63-4AAC-AD6A-750A4D8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8467C-DCCE-46C6-B20B-7C6CD284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F2865-7D84-4478-B168-D9D1C383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44F60-6A1D-47BC-B94B-20C05B88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05947-11FB-4B53-A43D-A6CF9029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M.Is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26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6" name="Rectangle 1027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1028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Oval 1029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1030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1031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1032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1033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1034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35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036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037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1038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8" name="Oval 1039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Oval 1040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041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042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043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044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045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1046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" name="Oval 1047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Group 1048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8" name="Freeform 1049"/>
              <p:cNvSpPr/>
              <p:nvPr/>
            </p:nvSpPr>
            <p:spPr>
              <a:xfrm>
                <a:off x="0" y="3800520"/>
                <a:ext cx="703440" cy="163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1050"/>
              <p:cNvSpPr/>
              <p:nvPr/>
            </p:nvSpPr>
            <p:spPr>
              <a:xfrm>
                <a:off x="601560" y="3693960"/>
                <a:ext cx="1308240" cy="190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1051"/>
              <p:cNvSpPr/>
              <p:nvPr/>
            </p:nvSpPr>
            <p:spPr>
              <a:xfrm>
                <a:off x="841320" y="4498920"/>
                <a:ext cx="100080" cy="11592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BBA9-84FC-4287-BEA7-9A8D149EA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onflict Management</a:t>
            </a:r>
            <a:br>
              <a:rPr sz="4800"/>
            </a:b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1" descr="C:\Program Files\Common Files\Microsoft Shared\Clipart\cagcat50\bd06990_.wmf"/>
          <p:cNvPicPr/>
          <p:nvPr/>
        </p:nvPicPr>
        <p:blipFill>
          <a:blip r:embed="rId1"/>
          <a:stretch/>
        </p:blipFill>
        <p:spPr>
          <a:xfrm>
            <a:off x="5029200" y="2514600"/>
            <a:ext cx="3809880" cy="3235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tecedent Condi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carce Resour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flicting attitu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mbiguous jurisdi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munication barri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ed for consens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resolved prior confli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nowledge of self and oth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ow to create conflic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9220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being a rol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ke credit, no recogn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 judg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nd written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bordinate should come to see 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yourself inaccessible to your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dividual Vs team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Telling them? Consulting them? Or deciding with them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e tomo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e change without consultation 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eneral causes of confli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orly defined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vergent personal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ck of cooperation/t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etition of scarce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clear roles/lack of job descri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imes New Roman"/>
              </a:rPr>
              <a:t>Effects of conflict in organizations</a:t>
            </a:r>
            <a:endParaRPr b="0" lang="en-US" sz="43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sentee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ff turn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-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-produ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Now………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Individual Exerci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dissolv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flict Tab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133720" y="2590920"/>
          <a:ext cx="5790960" cy="3504960"/>
        </p:xfrm>
        <a:graphic>
          <a:graphicData uri="http://schemas.openxmlformats.org/drawingml/2006/table">
            <a:tbl>
              <a:tblPr/>
              <a:tblGrid>
                <a:gridCol w="3000240"/>
                <a:gridCol w="2790720"/>
              </a:tblGrid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Win-Wi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Lose-Wi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Win-Lo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Lose-Lo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7"/>
          <p:cNvSpPr/>
          <p:nvPr/>
        </p:nvSpPr>
        <p:spPr>
          <a:xfrm>
            <a:off x="2841480" y="2049480"/>
            <a:ext cx="134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2743200" y="1981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 w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563868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5715000" y="1981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 l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22860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w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533520" y="468936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28600" y="495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l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edg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s to deal with confli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ompeti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win-lose situ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ccommodation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win-win situ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voidance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lose-lose situ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ompromise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lose-lose situ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ollaboration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win-win situ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eps to resolve confli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ssure privac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Empathize than sympathiz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Listen activel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aintain equit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Focus on issue, not on personalit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void blam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dentify key them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Re-state key theme frequentl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Encourage feedbac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dentify alternate solution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Give your positive feedbac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gree on an action pla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6400800" y="2359080"/>
            <a:ext cx="2514600" cy="3357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ow to prevent confli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quent meeting of your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low your team to express ope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aring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ing a clear and detailed job descri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ing task fai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ver criticize team members public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ways be fair and just with your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ing a role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se Stud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work in a group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u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2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Objectives</a:t>
            </a:r>
            <a:br>
              <a:rPr sz="36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define “conflict”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understand the importance of utilizing appropriate personnel management skill to deal with conflict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review typical conflicts one is involved, and possible methods generally used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become familiar with necessary skills in resolving conflict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spd="med" advTm="12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lbertus Extra Bold"/>
              </a:rPr>
              <a:t>Conflict is unavoid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xity of organizational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action among wor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ce of workers on one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on (Cont’d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flict is a healthy sign not a negative proc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 reflects dynamic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on (Cont’d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orly managed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favorable with counter productive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ems and negative attit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ell managed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imulate com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entify legitimate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werful source of 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pull dir="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atima, the Typi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mina, Razia and Fatima are typists/secreta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your organization. Samina is from Karachi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zia from Rawalpindi and Fatima from a rur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llage in Khairpur. Their average typing spe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uring last three months has be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mina (60), Razia (50) and Fatima (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What do you think of Fatima’s perform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Write your ranking using the scale from 1-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atima, the Typist (Cont’d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mina and Razia had other jobs befo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oining your organization. This is fatima’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rst job. She joined three months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What do you think of Fatima’s perform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atima, the Typist (Cont’d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le Samina and Razia have new impor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writers, Fatima has an old one whi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mps” frequen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What do you think of Fatima’s perform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atima, the Typist (Cont’d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st of Samina’s and Razia’s work is stra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ing of reports yet they have a consider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ber of errors. Fatima on the other hand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ually given heavy statistical data and h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is practically errorl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What do you think of Fatima’s perform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conflic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04920" y="1600200"/>
            <a:ext cx="8762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battle, contest or opposing forces existing between primitive desires and moral, religious or ethical ideas ( Webster’s Diction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tate of incompatibility of ideas between two or more parties or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Conflict management is the practice of identifying and handling conflict in a sensible, fair and efficient man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ypes of confli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ff993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-personal and intra-pers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3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-group and intra-gro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3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etitive and Disrup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666880" y="6858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Conflic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971800" y="1447920"/>
            <a:ext cx="411480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tecedent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6320" y="2209680"/>
            <a:ext cx="320040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ceived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095880" y="2362320"/>
            <a:ext cx="228600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el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895480" y="3276720"/>
            <a:ext cx="3276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nifest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971800" y="4419720"/>
            <a:ext cx="342900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flict Re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r Sup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895480" y="5867280"/>
            <a:ext cx="37339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olution after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 flipH="1">
            <a:off x="1828440" y="16002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>
            <a:off x="1905120" y="304812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3276720" y="2438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H="1">
            <a:off x="3276360" y="27432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 flipH="1">
            <a:off x="6248160" y="3048120"/>
            <a:ext cx="9903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449568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4495680" y="5410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>
            <a:off x="6629400" y="64771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 flipV="1">
            <a:off x="8610480" y="182880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32"/>
          <p:cNvSpPr/>
          <p:nvPr/>
        </p:nvSpPr>
        <p:spPr>
          <a:xfrm flipH="1">
            <a:off x="7315200" y="1828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9:12:30Z</dcterms:created>
  <dc:creator/>
  <dc:description/>
  <dc:language>en-US</dc:language>
  <cp:lastModifiedBy>Bright</cp:lastModifiedBy>
  <dcterms:modified xsi:type="dcterms:W3CDTF">2013-08-22T12:48:06Z</dcterms:modified>
  <cp:revision>74</cp:revision>
  <dc:subject/>
  <dc:title>Conflict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ALectures\901-1000\940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